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8E50-AD67-40C0-A115-B07212F5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6F8E-DD14-4CDA-A5AB-1AA6352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7CC2-E40F-49EC-9EB5-8375022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752E-1B2C-441B-822B-A247D867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D74D-6733-4903-A615-B32A0B5B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C588-359E-4FC8-886E-A1E07502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D6EC-A370-4D35-B337-6AAA7535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1FB4-E022-4A74-AFDE-98C3EE85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742-0242-4E1E-A963-6FEDC2CB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D93-6579-4D16-AFB2-E12AF150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D16C-E5FC-4F6E-89D1-9EF11F4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7CE6-D60E-4485-BFFD-E347508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A34-E0AA-43DB-B0D7-B0295A6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4134-BBD2-4867-B1E0-6CC00C9B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01AC-8341-4E77-B5DD-7B4FDC0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9D6C-4076-457C-9636-17BE0A20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21D-ABC6-45AE-AC71-F34F78FC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0201-3A42-4982-8410-D7065F49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CAC31-6C49-44FB-B253-DF2A426B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CF15-F1D8-4883-8DFE-64B8ED3E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270E-7710-470E-8684-967EEDFD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553B-8846-400D-A9CF-F8A67DC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DAD8-5A42-4444-B090-DBA63AA1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2C29-B204-415E-8FE8-B97EF9C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39B9-FF61-40FB-9254-7DA482A370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E6FF-E39F-423C-8B83-32A096FAC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etena mea cartea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te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 călător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n mileni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urt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istorie a tiparului </a:t>
            </a: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î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 d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nii au sim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mereu nevoia de a comunica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de a avea inform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le stocate astfel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c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â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 s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 poat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olosi 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s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le poat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mite genera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lor urm</a:t>
            </a: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a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rox. 59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– Chinezii incep sa practice tiparul de pe un relief in negativ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Ştiaţi că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7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 – Primul ziar tiparit in Beij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868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In China se tipareste prima carte. “Diamond Sutra” era tiparita pe matri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 de lemn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avea pe langa text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ilustra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04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Bi Sheng, un tipograf chinez, inventeaz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itera mobil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2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C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le sunt tip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te in Corea, folosindu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e litere mobile din me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4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Tehnica tiparului pe blocuri de lemn ajunge in Europa din As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prox. 14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– Johannes Gutenberg a adaptat presa de tipar cu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ub, bazandu-se pe metoda pres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ă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Ştiaţi că 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e la 1500 încoace peste 9  milioane de cărţi au fost puse in circulaţie( nu este vorba de tira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1500 prima tipăritură in ţara noastră călugărul Macarie –primul tipograf româ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Garamond"/>
              </a:rPr>
              <a:t>după 1980 împreună cu dezvoltarea tehnologiei s-au diversificat şi fabricarea cărţil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0:58Z</dcterms:created>
  <dc:creator>cursant</dc:creator>
  <dc:description/>
  <dc:language>en-US</dc:language>
  <cp:lastModifiedBy>cursant</cp:lastModifiedBy>
  <dcterms:modified xsi:type="dcterms:W3CDTF">2010-09-02T08:56:46Z</dcterms:modified>
  <cp:revision>3</cp:revision>
  <dc:subject/>
  <dc:title>Prietena mea cartea </dc:title>
</cp:coreProperties>
</file>